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EFC-1776-4743-A5CE-439991F2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062-56F6-4BEE-AEFE-15561C0F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FAE-660D-41AE-8454-A4D2304E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854-033B-4630-B47C-BEFDD550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C309-82F1-4D03-B56F-B52C8FB9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179E-658F-4C8A-AF2C-4A9CCF6D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580E-D878-40A1-A298-86D9D14A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6316-7AEE-4B61-AF28-1B463BBF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EBA7-C445-42F4-9AE7-A436C403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30B3-5B7D-4439-8C70-8438B62A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FB8E-E833-4AB2-82A3-D75DE01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D34-4584-4FE6-8805-920ED4F7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C16-0DE4-4800-BF00-98151D8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9D19-69C0-4E11-A2E3-CD0B4D1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0504-E91C-4A4D-B212-CC589DD5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EC86-BA3C-46CB-B42B-DBC5FA89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B842-D404-45EF-BAC4-D5768B1E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DCC9-AB31-480C-963D-F7BD6C83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6EC6-9B43-4FDA-99C9-F53E015E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78B4-9269-47DD-A850-D83612C9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BB7D-AF3A-4B64-B864-481BD4E1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BE2D-9A27-44F6-83FA-5650A98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0CC-C71E-42D4-9789-4E941E99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972A-EEE4-48EB-9B34-E549A4DE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9D75-F556-4EAE-BEAC-A1B43E1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9F62-24FC-44C6-A150-3FD99A4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9EA2-3715-4FEB-A728-BD171CC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94E4-57FE-43DC-910F-18B63161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51BE-3A2C-4A71-B0AB-3245F62C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B716-81ED-412B-BF74-43ECFB1B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390F-409F-4DA3-850E-35780F05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FE02-B91B-4429-B3DF-BCF94536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5B236-B887-47F6-BFDB-6A00ABD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A96-F31D-4459-B039-66988BDC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544F-852E-45D5-9281-CB174731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D9CA-D81D-4935-AFF4-187C3C3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3223-AF4A-4B3B-B4D1-392485B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FC03-6AD0-4059-A4E9-8974CE9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8544F-0493-4C00-A09D-DDCF4A78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C1DF-BB38-40C0-AC45-D4594E7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2040-C045-486A-B585-47D7D7D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44F1-27E6-491C-835D-90C6CB46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D13E-7613-4C32-B049-9D917CF4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52B8D-1FBD-48EA-AC28-8D43F9BF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41A-6B1F-42B8-AD59-8A7E6774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B5CA-E540-4471-A5F1-0B49556F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D9C1B-3479-4913-BDD3-74F9BFE2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EA29-47F2-4BD9-BE30-510B9667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44F5-5227-4F81-B5C3-6EE0278B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9994-F78C-41E1-9DB9-EF05ACC2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322E-E2FC-4A14-9649-69CE636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2C60A-C6A1-40DD-9FF7-9331DFC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1247-F0EA-4605-A649-399AB0E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4E21-9E4D-4F5E-A49F-C5978B0F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EEF25-9A3C-4474-A8AB-97DC5AF7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D42-7FB1-4921-8D81-EC2B925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C14B2-D9D4-44F4-BABA-5F4BA2B9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037D-8A9B-47CE-ADD0-DB74F149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1C41D-FA45-4947-9E1C-4B9265C4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ACC77-5885-4817-9A24-01DA4106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C57DC-E20D-4F80-879D-3754D82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A97A-1986-413D-A107-5304D6A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B1A5-A6EF-42BB-BDF2-4C6667D5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06456-ED6B-4F57-BA8B-DF2E40E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5A68-15B4-4E96-9794-B9C9843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F878-AF47-422D-84DD-CB118FFF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99F-3676-48BF-B5BD-C303AC0A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58F0-5A67-40AE-BF23-E466A36F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EB54-742C-4C6F-8053-58AB4E5A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C7EA4-F114-4E76-8E1F-C94C8395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D4142-CB60-45B2-A15A-BACB0CB1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E7CE-84E8-4D0F-8BF9-7F7B966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EC812-12DF-47F7-B2A5-382CA19D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EB84-FA04-4BCA-AEBE-2255051B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C5AA-04B7-48F9-915C-EAC5D8DF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CAFE-2882-4B8D-83F6-A52B6F32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31280-77C3-49DF-BD6E-E9ED2D6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867-EE8A-4E79-8754-AFA451C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8D6A-CD95-4A66-A5F3-401ABF5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1D2A-D947-4E65-BC8C-0243D52B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8150-AF92-4339-B43D-50ED200A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50869-0C2C-4C94-B68B-802607A7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8473A-80A1-4484-A45D-BA1CA028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13BB-F5D7-4613-96E0-75D90A1F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1F95-1DFB-40A2-8CB8-7F3B8EC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0EC4-CC62-4DEC-BD9D-4921E4D3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7911B-8A7F-4002-B54F-51034D0A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E8D3F-B17A-4A72-9B2E-87375FF7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9DE-A518-497C-B1EA-50DB854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50325-F38A-4467-835D-29561D9B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B32B1-8374-46A9-8C0B-410A66C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71BB7-6318-4AB6-ABB4-BA5B43FE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849A5-104E-4FE1-B9B6-916F6A1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3488C-A8C3-4829-9B1B-FEC12EE1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22560-3C38-4EBD-BE53-8CC080D8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2E85E-F303-4C4B-9C41-B2156D6C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9DAB-B193-4238-A92C-4F8E950AA8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A825-B9B2-40D5-8D4B-AF714DB470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418-C473-44F7-B2A0-F353D65BFF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734-C8CA-4E4C-9B70-DAC9002BB4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C3BF-B6C4-4806-9DC3-A77950D236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7CD3-079C-47A8-A7E1-FDB10B0B47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3D7D-93F9-4BF7-8B8A-402945605C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4212-0018-42BF-BCD5-302A10FE51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though the genotypes work out to be 1:1 homozygous dominant to heterozygous, the phenotypes are 100% 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f the example was two heterozygotes cross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905120" y="1523880"/>
          <a:ext cx="6781680" cy="3276720"/>
        </p:xfrm>
        <a:graphic>
          <a:graphicData uri="http://schemas.openxmlformats.org/drawingml/2006/table">
            <a:tbl>
              <a:tblPr/>
              <a:tblGrid>
                <a:gridCol w="815760"/>
                <a:gridCol w="2889360"/>
                <a:gridCol w="30765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816120" cy="685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838440" cy="704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847440" cy="800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"/>
          <p:cNvPicPr/>
          <p:nvPr/>
        </p:nvPicPr>
        <p:blipFill>
          <a:blip r:embed="rId4"/>
          <a:stretch/>
        </p:blipFill>
        <p:spPr>
          <a:xfrm>
            <a:off x="3809880" y="3809880"/>
            <a:ext cx="885960" cy="743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"/>
          <p:cNvPicPr/>
          <p:nvPr/>
        </p:nvPicPr>
        <p:blipFill>
          <a:blip r:embed="rId5"/>
          <a:stretch/>
        </p:blipFill>
        <p:spPr>
          <a:xfrm>
            <a:off x="6705720" y="2590920"/>
            <a:ext cx="885600" cy="742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6"/>
          <a:stretch/>
        </p:blipFill>
        <p:spPr>
          <a:xfrm>
            <a:off x="6934320" y="3809880"/>
            <a:ext cx="5428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w the genotype ratio is 1:2:1 (homozygous dominant : heterozygous : homozygous recess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e phenotype ratio is 3:1 (round to wrinkl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unnett square is useful at making predictions as w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o be reasonably accurate, the sample size must be quite lar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e principle of independent assort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racteristics will segregate their traits separately during gamete formation (gene for plant height not linked to gene for seed colou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nnett squares can show more than one character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unnett square of two characterisitcs is called a two-factor cro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initially attempted this with plants that were true breeding for two different characteristi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ound yellow (RRYY) plants were crossed with wrinkled green (rry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his merely yielded plants that were round yel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8" descr="p270"/>
          <p:cNvPicPr/>
          <p:nvPr/>
        </p:nvPicPr>
        <p:blipFill>
          <a:blip r:embed="rId1"/>
          <a:stretch/>
        </p:blipFill>
        <p:spPr>
          <a:xfrm>
            <a:off x="1371600" y="762120"/>
            <a:ext cx="6248520" cy="551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5181480" y="228600"/>
            <a:ext cx="457200" cy="447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4"/>
          <a:stretch/>
        </p:blipFill>
        <p:spPr>
          <a:xfrm>
            <a:off x="7848720" y="5410080"/>
            <a:ext cx="590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he tried crossing the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se were hybrids for two traits, hence the term “dihybrid” cro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sults this time were much differ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4" descr="sb4062f1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sults were only described in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9:3:3:1 (round yellow : round green : wrinkled yellow : wrinkled green) was predicted, and Mendel’s experimental results closely matched th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hould be noted that genes for different trait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egregate independently, but isn’t guaranteed to (som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nk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tics isn’t always as simple as Mendel’s experiment illustr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traits have more than two alleles (or even multiple genes) and complete dominance often doesn’t ex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tics often comes down to proba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del stated that traits in an organism are controlled by different fact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e know that each allele is controlled by a unique gene (sequence of nucleotid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ciple of segregation showed individual genes separate during gamete 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allele produced in equal numbers, so equal probability that a gamete with a given allele will make it to ferti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some cases, two alleles express themselves equally, but separate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codomin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alleles for white and red colours in a flower express equally to give a speckled red and white flow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allele masks the 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similar to incomplete dominance where both alleles blend to give a combined lo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d and white alleles would express equally to give a pink colo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352680" cy="3276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286160" cy="12762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5"/>
          <p:cNvSpPr/>
          <p:nvPr/>
        </p:nvSpPr>
        <p:spPr>
          <a:xfrm>
            <a:off x="990720" y="1981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domin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419112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6172200" y="1981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omple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traits are dictated by more than two alleles (said to have multiple allel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ommon example of this is blood 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ly, some traits are controlled by more than one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are said to be poly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skin colour is poly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sb4059f1"/>
          <p:cNvPicPr/>
          <p:nvPr/>
        </p:nvPicPr>
        <p:blipFill>
          <a:blip r:embed="rId1"/>
          <a:stretch/>
        </p:blipFill>
        <p:spPr>
          <a:xfrm>
            <a:off x="1371600" y="304920"/>
            <a:ext cx="67816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ossible offspring of sexual reproduction can be shown in a Punnett squ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ee some offspring with two of the same allele (homozygous – BB or bb), or one of each (heterozygous – B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scription of their genes is their genotype, whereas the physical characteristic is the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think: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ype 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s,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otype 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sical characteristi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B -&gt; g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rple flower -&gt;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eed shapes for pea plants have two alleles, round (R – dominant) and wrinkled (r – recessive).  If a homozygous dominant plant is crossed with a heterozygous plant, what is the expected genotypes and phenotypes of the offspr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779400" cy="761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93800" cy="6476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257800" y="4114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ou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18148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nkl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, we indentify the homozygous dominant as RR and the heterozygous as R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, we fill in the Punnett squ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905120" y="1523880"/>
          <a:ext cx="6781680" cy="3276720"/>
        </p:xfrm>
        <a:graphic>
          <a:graphicData uri="http://schemas.openxmlformats.org/drawingml/2006/table">
            <a:tbl>
              <a:tblPr/>
              <a:tblGrid>
                <a:gridCol w="815760"/>
                <a:gridCol w="2889360"/>
                <a:gridCol w="30765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816120" cy="685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838440" cy="704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847440" cy="800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1" descr=""/>
          <p:cNvPicPr/>
          <p:nvPr/>
        </p:nvPicPr>
        <p:blipFill>
          <a:blip r:embed="rId4"/>
          <a:stretch/>
        </p:blipFill>
        <p:spPr>
          <a:xfrm>
            <a:off x="6705720" y="259092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"/>
          <p:cNvPicPr/>
          <p:nvPr/>
        </p:nvPicPr>
        <p:blipFill>
          <a:blip r:embed="rId5"/>
          <a:stretch/>
        </p:blipFill>
        <p:spPr>
          <a:xfrm>
            <a:off x="3809880" y="3809880"/>
            <a:ext cx="885960" cy="743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"/>
          <p:cNvPicPr/>
          <p:nvPr/>
        </p:nvPicPr>
        <p:blipFill>
          <a:blip r:embed="rId6"/>
          <a:stretch/>
        </p:blipFill>
        <p:spPr>
          <a:xfrm>
            <a:off x="6781680" y="3733920"/>
            <a:ext cx="8859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2:03:05Z</dcterms:created>
  <dc:creator>ED18</dc:creator>
  <dc:description/>
  <dc:language>en-US</dc:language>
  <cp:lastModifiedBy>ED18</cp:lastModifiedBy>
  <dcterms:modified xsi:type="dcterms:W3CDTF">2010-11-12T14:52:33Z</dcterms:modified>
  <cp:revision>5</cp:revision>
  <dc:subject/>
  <dc:title>Mendelian Genetics</dc:title>
</cp:coreProperties>
</file>